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C4C-8DB0-465A-85D8-2C504E5E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334-4966-45AD-A1B1-0483201E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846-529A-4079-840A-9EE80AF9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FA4-25B4-484F-BE95-E321C10A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6E4-1EEB-4B47-9578-B7871C42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7A5-E018-4C92-A45C-356AAC7C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EF5-C592-4AF0-B296-191D0D8C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537-4C5F-4EE4-A333-2570ABE0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67A-860E-4850-B727-661ED3A9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680-604C-48E7-9C67-84B8FB3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ECE-720E-4DC5-B9C0-66E64CC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2D0-9131-4CA0-981A-91323264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62FE-44FE-4482-A2E5-D1C623923B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457200" y="12193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d469b"/>
                </a:solidFill>
                <a:latin typeface="Candara"/>
              </a:rPr>
              <a:t>Open 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://thenjournal.org/feature/80/math_cartoon.jpg"/>
          <p:cNvPicPr/>
          <p:nvPr/>
        </p:nvPicPr>
        <p:blipFill>
          <a:blip r:embed="rId1"/>
          <a:stretch/>
        </p:blipFill>
        <p:spPr>
          <a:xfrm>
            <a:off x="5791320" y="2209680"/>
            <a:ext cx="31446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cused Conversations – Part II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esterday you practiced holding focused conversations related to the parallel tasks you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day you are going to have an opportunity to practice these again with the open questions you crea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t with a twist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groups of 3 and assign the following ro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Diagram 3" descr=""/>
          <p:cNvPicPr/>
          <p:nvPr/>
        </p:nvPicPr>
        <p:blipFill>
          <a:blip r:embed="rId1"/>
          <a:stretch/>
        </p:blipFill>
        <p:spPr>
          <a:xfrm>
            <a:off x="469800" y="2419200"/>
            <a:ext cx="8236080" cy="2476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533520" y="5257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roles to the right until each person has had a chance to play each 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Discuss with your grou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types of questions seem more difficult to work into the focussed conversation?  (Refer to the data you collected when you were an observer.)  How could you ensure a balance of question ty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 you think focussed conversations could be useful with your colleagues at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200400"/>
          </a:xfrm>
          <a:prstGeom prst="rect">
            <a:avLst/>
          </a:prstGeom>
          <a:solidFill>
            <a:srgbClr val="e7030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on coaching? 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 Simeral and hall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eed something here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ake a moment to complete the exit card and leave it with us before you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stuckattheairport.com/wp-content/uploads/2009/03/exit-sign.jpg"/>
          <p:cNvPicPr/>
          <p:nvPr/>
        </p:nvPicPr>
        <p:blipFill>
          <a:blip r:embed="rId1"/>
          <a:stretch/>
        </p:blipFill>
        <p:spPr>
          <a:xfrm>
            <a:off x="6019920" y="42670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how open tasks allow access to the mathematics for al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ke sense of the process for creating open tasks/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creating open tasks and determining where they fit with the MATCH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anticipating difficulties to create scaffold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focussed conversations with critical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ry an Open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’s task….2 tables of dat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 a question o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you want to use an open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enefit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? Action? Consolidat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04760"/>
            <a:ext cx="8229600" cy="144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learning goal w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457200" y="3505320"/>
            <a:ext cx="8229600" cy="144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big idea w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" y="5105520"/>
            <a:ext cx="8229600" cy="14475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ut this open question in the lesson?  Minds on? Action? Consolidate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f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04760"/>
            <a:ext cx="8229600" cy="1447560"/>
          </a:xfrm>
          <a:prstGeom prst="rect">
            <a:avLst/>
          </a:prstGeom>
          <a:solidFill>
            <a:srgbClr val="e7030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hanged the learning goal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ut this open question now?  Minds on? Action? Consolidate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safe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with the answer. Ask for the quest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example, the sum of two fractions is .What might the fraction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for similarities and difference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example, how are y = 3x and y = 2x alike? How are they differ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certain information out of the problem, e.g. omit number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example, two right triangles are similar. One has two side lengths of 4 and 6. The other has one side length of 12. What lengths could the other three side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everal numbers and math words; the student must create a sentence using all the numbers and word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example, create a sentence that uses the words and numbers 40, 5, ratio,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soft” language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example, two ratios are “almost but not quite” equivalent. What might they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“text” questions provided and use it to create an open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733920" y="3429000"/>
            <a:ext cx="4647960" cy="642600"/>
          </a:xfrm>
          <a:prstGeom prst="rect">
            <a:avLst/>
          </a:prstGeom>
          <a:solidFill>
            <a:srgbClr val="e7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Questions – K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4495680" y="4800600"/>
            <a:ext cx="4191120" cy="1371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PQT template that you worked on yesterday, or create a new one if you pre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open task for one part of the templ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possible scaffold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8:21:17Z</dcterms:created>
  <dc:creator>Liisa Suurtamm</dc:creator>
  <dc:description/>
  <dc:language>en-US</dc:language>
  <cp:lastModifiedBy>Liisa Suurtamm</cp:lastModifiedBy>
  <dcterms:modified xsi:type="dcterms:W3CDTF">2010-08-10T22:05:19Z</dcterms:modified>
  <cp:revision>14</cp:revision>
  <dc:subject/>
  <dc:title>Slide 1</dc:title>
</cp:coreProperties>
</file>